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13D-ABBD-46CB-9A8F-EAD035D8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FD6-BD11-46E7-A8EF-0EB36950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0E3-8F65-4A8C-B610-7113F995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2BF-D74F-464A-93A3-8777967F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238-0011-49F1-910F-00FD99BC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ED28-9CAD-435B-A0E9-FEA1E525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FD1-5B94-4E80-A4FC-3F6C8285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78A3-53E2-488F-BC55-F3FC1B6E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1BFF-11CF-4723-ACD6-84AB447B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392D-AB1F-4489-9CBD-2E8E9B19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BDF-8DFB-4AFE-907B-530A20EB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120C-59CE-4C7B-A9F4-A146E622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4E8C-23EF-4D41-9A17-E2D6198C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B7F0-E51E-476E-AF18-689BBD61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433E-E6E3-4383-965C-C8BCECF0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46F8-2740-48D8-8933-000E61D3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1EAF-547B-45FE-8FB2-42976A3B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3C3E-6435-402C-B1FE-1E4CB36A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98F-4082-44BB-857D-24B15365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0E0-6396-4381-BF0B-FCC31DE1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EC2-FE40-43CC-A98E-AD51250E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BA3-18DC-43C0-869B-9899BFDD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3C0-10A5-45C3-8A2D-EDEEFDCF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A3D-5D92-4935-B1B7-8989395C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68BD-62BE-4CC5-B798-33351039D44E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9896-E489-4C43-89D0-DC1F3EFD0565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Financování 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KHS (OSS MZ)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středky určené na financování projektů jsou buď převedeny prostřednictvím rozpočtového opatření přímo do akce nebo jsou zařazeny do návrhu státního rozpočtu (pokud má projekt již vydanou řídicí dokumentaci)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oučasně jsou převedeny (rozpočtovány) i příjmy (např. RP 4118 a 4218) ve stejné výši jako výdaj financovaný z EU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latby realizuje příjemce sám prostřednictvím ISSP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schválení ŽoP ze strany řídicího orgánu jsou prostředky ve formě příjmu refundovány z MF (Národní fond) na finanční místo příjemce. </a:t>
            </a: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TYTO PROSTŘEDKY NEJSOU URČENY K DALŠÍMU FINANCOVÁNÍ!!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pravy a přeúčtování chyb v projektu je možné provádět výhradně během daného rozpočtového roku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gistrace akcí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Z registruje projekty do systému SMVS na základě schválených žádostí o podporu a informace od příslušného řídicího orgánu, jejichž projektový záměr byl schválen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souladu s Příkazem ministra č.39/2024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gistraci projektů financovaných z EU provádí oddělení EFI2 na základě excellovského podkladu tzv. bilance projektu (není nutné projekt zakládat do resortní databáze)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ávěrečné vyhodnocení akce (ZVA) bude vydáno až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schválení závěrečné zprávy o realizaci. Zdroje financování musí odpovídat částkám uvedených v ISKP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schválení ŽoP zašlete vygenerovaný formulář F1 na adresu finance@mzd.gov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Finanční vypořádání projektu je provedeno vydáním ZVA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Kroky před vydáním řídicí dokumentac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chválení projektu řídicím orgánem IROP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Žádost o vydání PA zaslat na MZ včetně poslední verze projektové žád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schválení projektu na úrovni vedení MZ budete FM oddělení EFI2 vyzvání k doložení bilance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aložení projektu do SMVS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chválení registrace projektu prostřednictvím formuláře S09 Dokumentace ak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počtové opatření typu 2 z MZ na KHS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dání sloučené řídicí dokumentace tj. Registrace akce a Stanovení výdajů na financování OSS, které bude zasláno příjemci prostřednictvím datové schránk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aslání řídicího dokumentu na CRR prostřednictvím depeš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zpočtové položky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33000" y="1600200"/>
            <a:ext cx="332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3d61"/>
                </a:solidFill>
                <a:uFillTx/>
                <a:latin typeface="GillSans"/>
              </a:rPr>
              <a:t>Investiční položky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6111 Programové vybavení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6112 Ocenitelná práva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6121 Stavby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6123 Dopravní prostředky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6125 Nákup HW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952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3d61"/>
                </a:solidFill>
                <a:uFillTx/>
                <a:latin typeface="GillSans"/>
              </a:rPr>
              <a:t>Neinvestiční položky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011 Platy pracovní poměr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013 Platy služební poměr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021 Odměny z dohod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031 Sociální pojištění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032 Zdravotní pojištění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342 FKSP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37 Drobný hmotný majetek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39 Nákup materiálu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66 Konzultační, poradenské a právní služby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67 Školení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68 Zpracování dat a služby spojené s IT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69 Ostatní služby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72 Programové vybavení s pořizovací</a:t>
            </a:r>
            <a:br>
              <a:rPr sz="1600"/>
            </a:b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  cenou pod 60 tis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přímé náklady vycházejí z čerpání přímých nákladů = platí pro schvalování ŽoP v systému MS 2021+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přímé náklady lze čerpat i dříve než přímé, ale je nutné finančně řídit jejich využití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přímé náklady lze také přeúčtovávat z provozních výdajů, a to v průběhu rozpočtového roku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přímé náklady jsou primárně neinvestičního charakteru, ale existují výjimky uvedené v </a:t>
            </a: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dokumentu IROP 2021-2027 Kategorie nepřímých způsobilých nákladů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, které jsou účetně investičními náklady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nvestiční nepřímé náklady projektu je nutné stanovit před vydáním Registrace akce a Stanovení výdajů na financování OSS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měny v projektu – změnová řídicí dokumentace (podepsaná)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Z vydává změnovou řídicí dokumentaci (podepsanou Ř EFI)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následujících případech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sun data realizace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finančního rámce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v termínech monitorovacích indikátor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sun mezi investičními a neinvestičními položkam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v názvu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!!!! Všechny schválené změny je v souladu s PM č. 39/2024 zapotřebí zasílat na finance@mzd.gov.cz!!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měny v projektu – změnová řídicí dokumentace (technická)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Z vydává změnovou řídicí dokumentaci (pouze v SMVS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následujících případech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sun mezi jednotlivými rozpočtovými položkami v rámci dané kategorie (investice, neinvestice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statutárního zástup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ve zdrojích financování ( např. po zapojení nároků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zn. Změny mezi položkami (hlavně v kategorii nepřímých nákladů) lze provádět bez předschválení MZ, ale tyto změny je zapotřebí hlásit na finance@mzd.gov.cz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Tipy a triky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aokrouhlování při rozúčtování nákladů – SR podíl nahoru, EU podíl směrem na haléř dol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Kontrola zaúčtování celkových výdajů na SR a EU podíl před ukončením finančního rok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ůběžné čerpání nepřímých náklad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ůběžná kontrola hodnoty nedočerpání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(např. po dokončení zakázek vypočítat nový limit pro čerpání nepřímých nákladů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Galuszková Věra, Ing. MBA</cp:lastModifiedBy>
  <cp:lastPrinted>2021-03-30T06:05:26Z</cp:lastPrinted>
  <dcterms:modified xsi:type="dcterms:W3CDTF">2025-09-16T11:18:32Z</dcterms:modified>
  <cp:revision>709</cp:revision>
  <dc:subject/>
  <dc:title>Snímek 1</dc:title>
</cp:coreProperties>
</file>